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A37-A579-46B3-A6FC-8F877D15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A48-88F2-466E-8478-1FA80BD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12E-6128-4038-975F-79E1D3BF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DC9-8461-43E0-B932-7C856507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150-06A3-4249-AA9F-EEF627E2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94B-0B54-4AA0-9D6C-5BF9B899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D5B-FF52-4EE9-B751-7F7061FB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916-5921-4357-A06A-3B0AC145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357-69E9-4973-85AC-213B910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18B-4D49-4F79-AF5F-309510C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24-99D8-4521-8E7C-03407D3E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0B8-00E3-415E-BB7E-9D82C3E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31D0-8B16-435F-9ACE-CDC6C0DA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 on Senses and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0" y="1959120"/>
          <a:ext cx="872172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9120"/>
                    <a:ext cx="8721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7"/>
          <p:cNvSpPr/>
          <p:nvPr/>
        </p:nvSpPr>
        <p:spPr>
          <a:xfrm>
            <a:off x="3295440" y="47498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161440" y="2895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312408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274320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77680" y="15238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350532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3505320" y="16002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19240" y="12762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733920" y="2514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290480" y="22860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 Rat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609480" y="1219320"/>
          <a:ext cx="80089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89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6"/>
          <p:cNvSpPr/>
          <p:nvPr/>
        </p:nvSpPr>
        <p:spPr>
          <a:xfrm rot="19003200">
            <a:off x="465120" y="55195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 rot="19193400">
            <a:off x="1650960" y="54860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 rot="18897600">
            <a:off x="2918160" y="54860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 rot="18997200">
            <a:off x="3891600" y="559512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8685800">
            <a:off x="5424120" y="54846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 rot="18636000">
            <a:off x="6668640" y="5322600"/>
            <a:ext cx="15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ying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7:37:36Z</dcterms:created>
  <dc:creator>pc</dc:creator>
  <dc:description/>
  <dc:language>en-US</dc:language>
  <cp:lastModifiedBy>msu-iit</cp:lastModifiedBy>
  <dcterms:modified xsi:type="dcterms:W3CDTF">2011-06-28T03:04:01Z</dcterms:modified>
  <cp:revision>83</cp:revision>
  <dc:subject/>
  <dc:title>Barriers to Communication</dc:title>
</cp:coreProperties>
</file>